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2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van" initials="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07-05-24T16:17:03.656000000" idx="1">
    <p:pos x="4066" y="2058"/>
    <p:text>ukoliko je roba poručena putem telefona ipak je bitno da se posalje i porudžbenica da slučajno ne bi došlo do zabune.</p:text>
  </p:cm>
</p:cmLst>
</file>

<file path=ppt/comments/comment14.xml><?xml version="1.0" encoding="utf-8"?>
<p:cmLst xmlns:p="http://schemas.openxmlformats.org/presentationml/2006/main">
  <p:cm authorId="0" dt="2007-05-24T13:47:19.421000000" idx="2">
    <p:pos x="4744" y="2420"/>
    <p:text>(ona obavezuje proizvođača da kupcu proda robu po određenim cenama u datom roku). </p:text>
  </p:cm>
  <p:cm authorId="0" dt="2007-05-24T13:48:55.718000000" idx="3">
    <p:pos x="2872" y="2985"/>
    <p:text>(upućuju se velikom broju firmi i neobavezne su), </p:text>
  </p:cm>
  <p:cm authorId="0" dt="2007-05-24T13:49:10.109000000" idx="4">
    <p:pos x="3748" y="2997"/>
    <p:text>(namenjene pojedinim kupcima sa različitim uslovima) </p:text>
  </p:cm>
  <p:cm authorId="0" dt="2007-05-24T13:49:29.796000000" idx="5">
    <p:pos x="4858" y="3009"/>
    <p:text>(daju povoljnije uslove od redovnih,obično se daju stalnim kupcima).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0800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ahoma"/>
              </a:rPr>
              <a:t>Posebne vrste poslovnih pisama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maj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21496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ijateljski upi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1" name="Picture 4" descr="prijateljski upit"/>
          <p:cNvPicPr/>
          <p:nvPr/>
        </p:nvPicPr>
        <p:blipFill>
          <a:blip r:embed="rId1"/>
          <a:stretch/>
        </p:blipFill>
        <p:spPr>
          <a:xfrm>
            <a:off x="2633760" y="2276640"/>
            <a:ext cx="6402240" cy="44751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108000" y="235584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risutan je prijateljski ton, bez detalja o isporuci ali ipak je bitno navesti datum isporuke i datum dostave ponude cen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Upit i opomena na visoku cen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4" name="Picture 4" descr="cena"/>
          <p:cNvPicPr/>
          <p:nvPr/>
        </p:nvPicPr>
        <p:blipFill>
          <a:blip r:embed="rId1"/>
          <a:stretch/>
        </p:blipFill>
        <p:spPr>
          <a:xfrm>
            <a:off x="3568680" y="1835280"/>
            <a:ext cx="5467320" cy="49068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71280" y="2124000"/>
            <a:ext cx="34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ismo počinje prijateljskim tonom ali se na kraju navodi nezadovoljstvo cenama u zvaničnom tonu i jasna opomena dobavljaču da snizi cene jer je počeo da iskorišćava dobre odnose sa dugogodišnjim poslovnim partnero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orudžbenic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13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rudžbenice, oblik poslovnog pisma kojim kupac zahteva od proizvođača da mu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sporuči određenu robu, na osnovu ponud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ručilac je obavezan da preuzme 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ihvati robu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rudžbenica je vrsta ugovor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ože se otkazati telefonom, ili na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drug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način, ali pre nego što prodavac realizuje zahtev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orudžbenic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9" name="Picture 4" descr="porudzbenica"/>
          <p:cNvPicPr/>
          <p:nvPr/>
        </p:nvPicPr>
        <p:blipFill>
          <a:blip r:embed="rId1"/>
          <a:srcRect l="0" t="7637" r="0" b="0"/>
          <a:stretch/>
        </p:blipFill>
        <p:spPr>
          <a:xfrm>
            <a:off x="826920" y="2133720"/>
            <a:ext cx="72774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nud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84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nud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m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 nudi roba potencijalnim kupcim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Veoma je važno da je ponud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ezički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jasna, kratka i precizn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nuda može biti neobavezna il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bavezn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ma broju firmi kojima se proizvođač obraća ponude mogu biti opšte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sebne i specijal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ledi primer jedne ponu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13363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Ponud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3" name="Picture 5" descr="ponuda pakom"/>
          <p:cNvPicPr/>
          <p:nvPr/>
        </p:nvPicPr>
        <p:blipFill>
          <a:blip r:embed="rId1"/>
          <a:srcRect l="0" t="0" r="0" b="38058"/>
          <a:stretch/>
        </p:blipFill>
        <p:spPr>
          <a:xfrm>
            <a:off x="2801880" y="2133720"/>
            <a:ext cx="6162840" cy="43196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14" name="Text Box 6"/>
          <p:cNvSpPr/>
          <p:nvPr/>
        </p:nvSpPr>
        <p:spPr>
          <a:xfrm>
            <a:off x="34920" y="29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rimer obavezne ponude jer je vremenski ograniče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627280" y="3357720"/>
            <a:ext cx="2808360" cy="14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Šta su to poslovna pism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vimo u vremenu mobilnih telefona i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terneta, ali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isana reč je za pos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o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važna kao i pr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slovna pisma predstavljaju posebnu kategoriju pisama, različitih od ličnih, prijateljskih i porodičnih. Od njih se razlikuju oblikom, stilom i namenom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slovni partneri moraju da sastavljaju ugovore, šalju prigovore, pregovaraju i izvinjavaju se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, a najbolji način za to je u pisanoj formi tj. pismim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Šta su to poslovna pism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13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javom i širenjem elektronske pošte dopisivanje je doživelo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ekspanziju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, a danas u poslovnom svetu kruži više pisama nego ikada rani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Kad se radi o ugovaranju poslova, način na koji pišete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pisma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ože da utiče na rezul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at poslov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Poslovna pisma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d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o su kulture p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duzeća, poslovnog protokola, slike koju p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duzeće želi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da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ostaviti u javnosti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sebne vrste poslovnih pisam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54200" y="2420640"/>
            <a:ext cx="3889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Op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  <a:ea typeface="Arial"/>
              </a:rPr>
              <a:t>š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ti upit ili zahtev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Poseban upit ili zahtev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Porud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  <a:ea typeface="Arial"/>
              </a:rPr>
              <a:t>ž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benic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Arial"/>
              </a:rPr>
              <a:t>Ponud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Op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  <a:ea typeface="Arial"/>
              </a:rPr>
              <a:t>š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ti upit ili zahtev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8066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Opšti upi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je oblik posebnog poslovnog pisma kojim jedna firma traži od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druge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nformacije o uslovima prodaje robe za koju je zainteresovan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p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šti upi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osnovni upit"/>
          <p:cNvPicPr/>
          <p:nvPr/>
        </p:nvPicPr>
        <p:blipFill>
          <a:blip r:embed="rId1"/>
          <a:stretch/>
        </p:blipFill>
        <p:spPr>
          <a:xfrm>
            <a:off x="4094280" y="1773360"/>
            <a:ext cx="4941720" cy="49989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seban upit ili zahtev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13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Poseban upi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je poslovno pismo kojim firma traži podatke o robi (kvalitet,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ena itd) za koju je zainteresovan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 ovim upitima se uglavnom sreće zvaničan ton ali je isto tako moguć i prijateljski, npr. ako je pismo upućeno dugogodišnjem partneru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sto tako u upitima se može izraziti nezadovoljstvo zbog visoke cene i na kulturan način partneru stavi do znanja da redukuje cen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Zahtev za dodatnim informacijam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Picture 4" descr="dodatni podaci o proizvodu"/>
          <p:cNvPicPr/>
          <p:nvPr/>
        </p:nvPicPr>
        <p:blipFill>
          <a:blip r:embed="rId1"/>
          <a:stretch/>
        </p:blipFill>
        <p:spPr>
          <a:xfrm>
            <a:off x="2665440" y="2708280"/>
            <a:ext cx="6370560" cy="370368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0" y="2792520"/>
            <a:ext cx="27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tandardni zahtev za dodatne informacijama o robi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npr. ako u katalogu nema potrebnih informaci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5523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Zvanični upi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Picture 4" descr="zvanicni upit"/>
          <p:cNvPicPr/>
          <p:nvPr/>
        </p:nvPicPr>
        <p:blipFill>
          <a:blip r:embed="rId1"/>
          <a:stretch/>
        </p:blipFill>
        <p:spPr>
          <a:xfrm>
            <a:off x="2516040" y="2308320"/>
            <a:ext cx="6377040" cy="44337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08000" y="2214720"/>
            <a:ext cx="23032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Arial"/>
              </a:rPr>
              <a:t>Ovo je uobi</a:t>
            </a:r>
            <a:r>
              <a:rPr b="0" lang="sr-Latn-CS" sz="2300" spc="-1" strike="noStrike">
                <a:solidFill>
                  <a:srgbClr val="4d4d4d"/>
                </a:solidFill>
                <a:latin typeface="Arial"/>
              </a:rPr>
              <a:t>čajeni zahtev o ceni. </a:t>
            </a:r>
            <a:br>
              <a:rPr sz="2300"/>
            </a:br>
            <a:r>
              <a:rPr b="0" lang="sr-Latn-CS" sz="2300" spc="-1" strike="noStrike">
                <a:solidFill>
                  <a:srgbClr val="4d4d4d"/>
                </a:solidFill>
                <a:latin typeface="Arial"/>
              </a:rPr>
              <a:t>Pismo je kratko i direktno a ima zvaničan ton. Bitno je navesti i šifre proizvoda da ne dođe do nesporazuma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2:20Z</dcterms:modified>
  <cp:revision>33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